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76D5-C067-4DEA-9CA0-612629A9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8E7-7963-4DAC-9C86-5F19E8A2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847AA-4DFF-4DFA-A283-10116D5C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47DDD-0C1F-4F4C-B8F0-FE0471C7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176B3-772A-453D-9FED-1350D74B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41A4D-1A93-4318-B824-EC799D90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0A933-E990-4B5B-9848-B9A12C80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B84E8-969E-488B-9A32-3CF71676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7C854-BCF9-471B-A338-22DE08BF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169FE-0812-424E-9733-3D2D332E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6014B-6016-4127-87A6-DECF8761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A232F-5E2D-4E3F-AEA8-A86266D8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5FC-EBF6-4248-BFEA-487D67D6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768D6-33FD-4CD5-AED0-E842ABDC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2FC01-3AA0-4F93-B3BE-1B1ACBFE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56639-2B49-4141-862B-91DD6B97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C9FC7-7FB2-4F1E-AEF6-7E0FED53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E2AD2-43B5-454F-AEBD-F896927C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691E1-A27C-489F-9496-1DBA245C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F747E-956D-429C-A079-1393FF89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36226-FD3E-4E31-972A-632CBDCF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A0B9A-A484-4C80-9A86-BA5FFF67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49848-8CFB-472C-9E14-00B611B4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201F-F542-4858-84A8-BECF2E97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1B59F-E272-4EED-9A0A-EA5CC4AA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EF60A-5058-4747-96F3-CA1B030A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37110-57FC-4885-8A54-480C2C24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3EC49-FDA8-4E20-982C-0AF8B246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8021B-83D7-4A74-B607-1C53F197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051B6-5EC4-49C7-B156-2E2AD484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FC6CD-BF1A-4C42-8FED-5159C1EA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93422-76FC-4B67-9D16-744C370C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13107-67E7-4DBC-981D-3D7CE216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05CCB-EA85-4027-A69F-D5AE040B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EEC7-BC93-41A8-A611-A4FEBD35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77453-C503-4BD8-9272-6B1DCFEC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A40A4-CE12-423E-942E-3F9B8A89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476AE-E82A-476A-9E7D-512764EF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2D454-074A-48FB-953E-BB612DE9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A2C2D-BCF8-46E4-B7D7-CCD60953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2C95E-BB53-496C-AF49-B085CD6A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5DD7B-E6E8-4783-A071-63A9D573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AC762-2483-4BE9-B5BB-BB6C828A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7F0B9-DE17-4BFD-BD81-35EFC2DA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B31E4-29D0-40E2-94A7-8C94327C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7539-9D4F-4F89-8FA2-859AA051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5DB5A-48D0-4AA2-97FB-6EE574B1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F3306-D0AA-43E2-85AF-87598AFD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E09EB-8328-4421-BAAF-34E43413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2F145-63E5-404F-816E-14784059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4A48F-74E1-4099-8C74-9D8D9E20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171F5-ADE6-48EB-AE89-26247377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F9E74-ED41-43F5-8DE4-A8B22D98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8C131-BF36-4137-91A9-692EA3A0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C694D-EDB2-4913-AB36-7EE06C97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23A4E-07C1-459F-9124-D68A9D9B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DA25-BFBC-414A-BA87-ECCD1898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5DA92-63E0-4B4C-98C6-638D4A0A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5AF3B-7DA3-495D-A85B-949497CA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D9DCE-441D-4B8B-8303-85D7F39F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5B97A-7AF3-4639-B36E-F47D2F35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F68D8-BE29-4E73-A8D0-08EF79D3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9588C7-8F2A-441B-9259-2C33D997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7D8DA-693E-4A8F-A7F5-DC2A992B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E7D11-8746-48F7-979B-3C068723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F1C919-A872-47F8-A582-89F1FC24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CEC46-A733-4881-A969-DDF50901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976E-EBB4-4D65-87C0-B19185A6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7534F-3EC2-4EC6-A8AC-79172289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97C7D8-E26F-4AF8-AD36-4FDB45F8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1E3A5-F7B4-4C15-8FB9-27389A99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80B808-AE2C-4F3D-85F2-CCB3F26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3FD81D-DBA0-404A-9348-0D0F2F44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5908A8-F6B6-40D6-B0C6-01A64E51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0C1FF1-0DA0-4FA4-8180-FB08360D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1C4D6-7EF3-4181-BAE0-C1B4348E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A70278-FC0B-457D-AD75-B0D4103E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F64E5D-1368-46BE-AB44-392D483F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BB12-1345-4686-992B-71F1DB24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89C584-0BA8-49C8-BEE1-2F8E1953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B2C81B-CC44-4164-BF9B-DBAE0204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B2A12B-0036-49CC-B8A6-AEC41CD0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692CCB-F5CC-4403-87B5-6F0B0B79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F5D2F5-3B05-428B-AE33-7063BF1A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0D061-17FD-4B6A-B5E6-90610FCF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38BB79-A6F2-44A9-9093-0D264D04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3138C-D0A3-4AB7-A50F-4A486FDB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8F2B81-91BC-423A-B0AC-44134601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3D645B-75C9-4FEA-AA7A-26CBAE76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3139-2D80-4CB0-9670-0396138B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0CE6C-4629-4A83-9714-EECAC5DF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4C5936-3CA5-4D47-BA18-33FF6B06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C75D32-B1FC-4B66-B967-5DC86B09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07BD80-7AC7-409C-8716-C54A0B70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85E9F-1A49-4A91-8753-926D4F5E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C443D2-1F69-4C59-9A04-C517D9A8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C149F9-09E0-4F50-9907-20FAB2EF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7583EA-391C-4039-9814-81A6285B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B6D890-02C2-4FF6-9272-4EB1D54D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8BA0A4-B5FD-4824-9F33-93EBFAAD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1973-AB6B-41A5-BE9E-7C083F63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1A7436-9C1A-4A0F-A1CD-3BBAC487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C1F1B8-75BB-4B91-9503-534F9A58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890645-FCEF-4CF9-B0BD-534D0F26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76EB78-7948-4280-A3D7-B6818820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245606-F4B3-40E2-8F88-2AD444D4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2BC277-F5C2-40B0-8F7A-9F260BBE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6555A9-61A1-4891-887D-60167BC3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A03CD4-EF4D-488F-BE7B-BBC4FA62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FD00EC-BDFB-4710-8463-7823D030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ED9BEB-5562-4B7B-A8BA-B4404FC7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810-11CB-46DB-9B94-30391A0B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08A5-79F6-444C-A0F9-483AE179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C80D31-FD00-4E7C-A1C6-942D538F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A7FB05-1DBE-4851-9DB8-28054453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6C2502-5209-4A03-8856-0B812355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65271F-7D7F-4E8E-9202-7177E333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AD4780-A434-44DA-B7A2-C2441BDC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623768-E96D-404F-BA5F-FFC7910E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608313-905E-43A1-890F-FE5198E3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2D11FE-5C67-42FC-B22F-5C69F62F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128057-7F3C-4EC6-9D6A-3776DB21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E37017-EFF5-4575-827E-CE412FE6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BD8B-105E-4F2D-9467-5133FF36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642681-18FE-4ED2-87D0-87A4E0B5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1A2794-ABD9-42BF-A542-F010D3D9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4ADA0E-3620-4F3C-987E-F8761D8E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BE9146-8D77-4993-82E0-3D28734B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050415-CAC4-40EC-A5DC-2CC831F6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0DD506-8167-45C2-A9B0-6A4768D7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7B28E3-64E1-4BEC-A6E9-AE051391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845C7F-DA97-4118-9596-44302F58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41E293-B883-43F4-8540-6BA52C45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816CCC-C8A1-4C7E-8C5B-A70217AB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A886-34CC-49DC-B802-55EEFDE3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E44629-5F54-47F4-8023-CEBB0D36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7BF071-5975-4DD3-8AF9-5912FB57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99CB20-201C-4E2F-8058-3FB94A5C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1C4BC6-3977-44BA-BA72-4F284207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15B0AF-7046-4AFE-BF33-EF7ABBE8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7D7768-CFD2-4C77-8724-EDB97A4C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CF7AA6-F770-47BC-8589-BBD5BA80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94D4E2-599D-4639-89E9-5D47FD8F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595B2C-05E1-4EF0-AFA1-A508C9D3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AF1E14-4512-4A6E-AD95-D9B379AE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F5DF-2C0A-4910-8BC8-CE18BDE2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A24BD5-32FC-47C9-896E-57C84992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496AA0-38A4-41E5-A4ED-02CED16B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8DBA2B-2C87-4641-8289-9CDC5967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D581B5-CD9C-4216-AC91-D8AB89DD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3E3F63-9F3D-4C8E-B81B-896FDE26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E8127F-D0FB-446F-A07D-8BE653D1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0BF312-57DF-49E1-991F-7B34BADA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96DD88-4350-46CB-8914-4CB66252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EF5649-C225-490F-87A4-F498C3F8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FE1DB3-51E4-4ECD-9466-0489B6D8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DEFF-12F9-4290-B701-DCDC07E9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B07CF9-B3DE-4241-826A-35AB738C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B8EA13-711E-4238-8365-071D53BA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232A4C-C3A0-4F43-AFB7-57983FC5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9808F7-2B37-4D15-A0EB-7C59620C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0380B2-3573-45D8-B477-8BA59395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3E37E6-33BA-41ED-8926-9D0A0B4A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0B34D4-0E7D-4238-B5E4-CD66527F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B136EB-CDDC-46A6-8581-A512E8CD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5AD710-7598-4B4B-A042-989B7759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10AF4A-C491-4D31-AF71-143F996E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737DC-97F9-40EF-B1F8-125552EA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C02ADA-9CDB-4C00-B44F-78F46C3F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D14681-1603-479E-B1CF-96C2DDE9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DA0E81-72BD-416B-89EC-22582A00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C906C-8ED4-46D9-A91F-A7538681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A1DF2-F70B-437A-85DD-26226119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9EBF6-F96A-4635-A59C-7DEEA36C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92197-872F-45E9-B401-6D6CC61B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D1C6-F184-4593-BC57-659D9B6F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EF73B-1E28-4915-93AA-75387212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1FBE9-4A9C-4B52-81A2-663975BC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185E9-7CF4-4A99-81C2-F3084001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3C68A-456A-42EA-A629-3626209E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50636-9BF7-4408-A3FB-EBD963F8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28F7C-E513-4E3E-9CCB-DA257CEE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2E306-09B0-41B3-910F-EC207FF3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AAF10-D446-44C2-8500-0944F127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0D59E-2C73-4BA6-9B34-0BEF46EC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5DC55-69A0-4629-8EE1-3102DFA8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5B7-9E7D-4033-B049-4D33810C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2CBCE-9C90-4B46-8E1B-DCA39150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ECF46-9DEB-4811-AE2E-A65ECE4F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73152-DF4C-4C74-B590-00D6C2A9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3FFB4-88B4-4607-89A8-8275420B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0510E-5A12-46E1-AD06-576553B0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E33DA-5220-47D2-A289-8F1C8959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8ADB5-F016-41B3-A624-B706C642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CCD55-8410-429F-8632-FEAFBDCC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2D0A8-F595-4020-9D4A-592089BE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1F35F-FDE5-4D03-9DEA-C4AC86D0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173-2649-494F-99F5-297D153B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5F9A4-7231-4334-A41B-2A868A01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A5EF2-5078-4E77-86D9-0698BA30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BF5B7-43E2-47FA-8CF3-EE6A5B89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95AB1-BA0E-413D-82E6-07B5F780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EBF7D-342F-4AF6-9EEC-C45B29A4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EFC10-317C-4F4F-87CA-E983B1D0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6A62A-A957-4255-AEBE-7215DA6F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32E6B-69C6-4427-BBF5-0B529A02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93948-0473-48AA-9885-F8FFAE0C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7DC3D-14B7-45AF-9AA6-1EF81E99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8CB-4CD6-4ED9-8B0D-BE81B753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AB58A-09B1-47E3-8979-9818AA06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9FE10-47B0-4B71-A5FC-F1A49426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7F904-743A-4029-A2E2-63DB6964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46857-D49D-4CDE-887B-47954DEC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180E7-C3CB-4CAE-8DA2-98401C55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83D79-3E1D-40A0-B2BB-9F90119D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17ED6-39D2-4497-B70A-65784907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0143A-B075-416B-910A-E09E2269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1DB2A-FF61-493C-8264-33A901D7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E547F-9086-46E6-BF0E-88E6C5CA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145-4403-4240-8752-FFEC205D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9F6C4-FE78-4F8D-B12B-7182BC9B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1910D-AE6A-4B3D-B1BD-3C2551A8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21248-5D74-44DD-A582-1AE63E3B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DDDF4-DDC5-43B4-9279-6B1A7E94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14D7F-8381-4985-9FE6-0CB7C418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3F2F2-1D0D-40F3-A7BA-633C8D7F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AECCC-0E77-4B51-9E22-11033DFC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E9FE9-AC05-4F58-AEF6-115484F3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84EF3-F62C-402E-A472-108A25A5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39868-FC6F-4F20-BFFD-201F7155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C4D-18D6-4A1C-80A3-05F1F17C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178B6-A315-45FC-B459-3D0492C8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5FF1A-25BF-4183-8A0C-A328C819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B366E-9151-4399-8C9A-898A0952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14AC4-8040-44D0-9880-C8500146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CCB69-FC98-4ACE-9039-C8B39517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BF079-7865-447D-8718-F2E7AB1E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E1F53-C74B-48EB-BF90-46EEF518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344D5-840E-493E-9303-6CDCF394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2BD46-69D3-406F-8FB2-D8DFDB5C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DC5CE-A4B9-4CB2-9ED0-2B290CC0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7E7-D5B4-4FD3-83E6-E1CE4EE5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AF489-4C59-4741-88D1-8F29CEA9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B5F72-9E3A-41EC-81AF-D5EC4F68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8F6A2-C034-4342-B7C7-00EF26E9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B4B96-3AF5-4856-BA16-5A2886C2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C9067-3F84-41FC-90F8-A0EA4593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5B9F9-D064-46CB-ADDD-970396CA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257D3-1319-417B-8D56-66B2EC73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3AA72-A824-465D-90C7-E65E2929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CA0FA-5B19-43C9-AC8C-CE82A8B8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3B5DE-EA96-43DA-903A-B866DCAD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3456-6A3E-4D94-9974-9DDA836AC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5F7A-1D66-4B5E-9F6C-85E5A5AD8C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63A2-4FB3-40FA-8662-27F08BB242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4E31-4A01-4E6E-936F-6BCEECE676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667F-D859-43A7-8D0F-D7C682804B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30A8-D9C3-4D85-A751-939E4A02D3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F45F-871B-4896-801C-B90329C23C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4BA0-C88D-4A2F-B95F-AB53DC56CF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FDB0-EF69-4AC5-B974-58F24012DB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BD45-1A1C-4FE1-B593-E0EE09167B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36C9-F813-4269-8CC4-835DF1F81A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CADE-645E-4CBD-8ABE-1ED333EA09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80B7-6C00-4C92-8C61-54B3FF803E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E32B-15ED-4A1B-B9D6-114EF2E1A1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93D1-7544-4C3E-91DA-89D81E48B8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44B4-A37F-4AA8-AE4E-9545B9F58B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9113-2657-44A1-B718-764952F2E8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7CE1-EE31-463D-87E4-2DF0FACFDA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1D81-BCFC-445E-B2EB-AAD14706AD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EDF4-6A94-48C2-A11D-2A6F7A10EB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2084-2711-4BC8-BD59-D3C738F67E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14F0-6910-4625-9868-7A230E2244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A565-7DD0-4231-AF96-8BCD811190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2C87-27FB-4405-8A34-7E35DED98D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21B5-5DD2-4955-989B-72238E3A6B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6A6A-37EF-4252-8FFE-7FFC2856B2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8AAE-3837-41EE-AF9C-F666631EC8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0EA6-3B46-463C-A823-B448CF20C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59B5-2F72-4FF9-8651-6F8C8A65D9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2BC8-5E7D-4583-B665-E8097C578F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DE3D-2CAB-4361-BF10-02507C746A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5A85-DC80-489C-BCB3-57EC62729F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902D-AF89-4467-B1DE-F4772AAD7C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144A-322F-43F4-8098-13E9F97A50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97A7-622D-480E-8C26-80984FA739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D561-55DC-406D-ADD3-C7A73DD357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0C3A-8B57-4885-84EA-C6E05DAC5B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8626-6FA9-4E2F-932C-14D46981CB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6B6A-FC1D-4508-9BDD-2307EBF908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5CB0-10EC-479F-9E54-778107E41B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576520" y="3124080"/>
            <a:ext cx="39909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76320" y="1895400"/>
            <a:ext cx="8991360" cy="30672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2556000" y="3255840"/>
            <a:ext cx="936360" cy="320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6516720" y="3241800"/>
            <a:ext cx="936720" cy="320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2700360" y="3645000"/>
            <a:ext cx="936720" cy="2635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6286680" y="3630600"/>
            <a:ext cx="936360" cy="2635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2340000" y="3962520"/>
            <a:ext cx="936720" cy="2635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6227640" y="3962520"/>
            <a:ext cx="936720" cy="2635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2627280" y="4292640"/>
            <a:ext cx="936720" cy="2635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6862680" y="4292640"/>
            <a:ext cx="936720" cy="2635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1835280" y="4624560"/>
            <a:ext cx="936360" cy="2635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4932360" y="4624560"/>
            <a:ext cx="936720" cy="2635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3"/>
          <a:stretch/>
        </p:blipFill>
        <p:spPr>
          <a:xfrm>
            <a:off x="8028000" y="4610160"/>
            <a:ext cx="93672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82440" y="1241280"/>
            <a:ext cx="8979120" cy="45705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755640" y="25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255600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4500720" y="25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615636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8028000" y="2593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770040" y="3875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8"/>
          <a:stretch/>
        </p:blipFill>
        <p:spPr>
          <a:xfrm>
            <a:off x="755640" y="42069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9"/>
          <a:stretch/>
        </p:blipFill>
        <p:spPr>
          <a:xfrm>
            <a:off x="755640" y="45370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0"/>
          <a:stretch/>
        </p:blipFill>
        <p:spPr>
          <a:xfrm>
            <a:off x="755640" y="4869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1"/>
          <a:stretch/>
        </p:blipFill>
        <p:spPr>
          <a:xfrm>
            <a:off x="755640" y="5214960"/>
            <a:ext cx="360360" cy="2300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2"/>
          <a:stretch/>
        </p:blipFill>
        <p:spPr>
          <a:xfrm>
            <a:off x="755640" y="5516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27000" y="1952640"/>
            <a:ext cx="90885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101520" y="2452680"/>
            <a:ext cx="89409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3:38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